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4F25-20A1-4081-9649-D7FBE643C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BA17-B699-4615-823E-555A61BD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B673-849D-4527-933C-CD61295C3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5C1D-5B30-4187-B120-87A0A70F5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23FF-26F1-4011-8656-7C34DD77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F24F-808C-4A67-9232-0FF3E53E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8F72-481D-41D3-8DFE-C3935510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D3E3-3500-42F3-AC19-A9887DE6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CEFE-2906-4799-8512-29780249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7435-D87E-40E3-9C34-F8B1F4D4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451B-F2F4-4584-8606-7EFF9E02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5982-4F06-4C48-9B05-F6E96BC6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2E00-C29D-4382-9287-1B799C697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Felix Titling"/>
              </a:rPr>
              <a:t>Ru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Felix Titling"/>
              </a:rPr>
              <a:t>By: Chris and Micha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highwa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609480" y="533520"/>
            <a:ext cx="82296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Felix Titling"/>
              </a:rPr>
              <a:t>I have ru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Felix Titling"/>
              </a:rPr>
              <a:t>A highw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Felix Titling"/>
              </a:rPr>
              <a:t>That was i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Felix Titling"/>
              </a:rPr>
              <a:t>A build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rush hou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762120" y="457200"/>
            <a:ext cx="78483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elix Titling"/>
              </a:rPr>
              <a:t>And whi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elix Titling"/>
              </a:rPr>
              <a:t>You were probab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elix Titling"/>
              </a:rPr>
              <a:t>Buil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elix Titling"/>
              </a:rPr>
              <a:t>For rush h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ta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914400" y="609480"/>
            <a:ext cx="73152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Felix Titling"/>
              </a:rPr>
              <a:t>Forgive 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Felix Titling"/>
              </a:rPr>
              <a:t>The tar was still w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Felix Titling"/>
              </a:rPr>
              <a:t>So stic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Felix Titling"/>
              </a:rPr>
              <a:t>So h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elix Titling"/>
              </a:rPr>
              <a:t>Bibliograph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elix Titl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elix Titling"/>
              </a:rPr>
              <a:t>Works C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elix Titl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elix Titling"/>
              </a:rPr>
              <a:t>Chan, Christopher. “Rush Hour (#12) on Flickr - Photo Sharing!.”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Felix Titling"/>
              </a:rPr>
              <a:t>Welcome to Flickr - Photo Sharing</a:t>
            </a:r>
            <a:r>
              <a:rPr b="0" lang="en-US" sz="2000" spc="-1" strike="noStrike">
                <a:solidFill>
                  <a:srgbClr val="000000"/>
                </a:solidFill>
                <a:latin typeface="Felix Titling"/>
              </a:rPr>
              <a:t>. 18 Apr. 2007. 16 Apr. 2009 &lt;http://www.flickr.com/photos/chanc/463830261/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elix Titl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elix Titling"/>
              </a:rPr>
              <a:t>None, MenetnashtÃ©. “La Brea Tar Pits on Flickr - Photo Sharing!."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Felix Titling"/>
              </a:rPr>
              <a:t>Welcome to Flickr - Photo Sharing</a:t>
            </a:r>
            <a:r>
              <a:rPr b="0" lang="en-US" sz="2000" spc="-1" strike="noStrike">
                <a:solidFill>
                  <a:srgbClr val="000000"/>
                </a:solidFill>
                <a:latin typeface="Felix Titling"/>
              </a:rPr>
              <a:t>. 7 June 2008. 16 Apr. 2009 &lt;http://www.flickr.com/photos/sandy_pics/2559830392/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elix Titl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elix Titling"/>
              </a:rPr>
              <a:t>None, Nrbelex. “Highway Insomnia on Flickr - Photo Sharing!."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Felix Titling"/>
              </a:rPr>
              <a:t>Welcome to Flickr - Photo Sharing</a:t>
            </a:r>
            <a:r>
              <a:rPr b="0" lang="en-US" sz="2000" spc="-1" strike="noStrike">
                <a:solidFill>
                  <a:srgbClr val="000000"/>
                </a:solidFill>
                <a:latin typeface="Felix Titling"/>
              </a:rPr>
              <a:t>. 9 Apr. 2007. 16 Apr. 2009 &lt;http://www.flickr.com/photos/nrbelex/452412873/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elix Titl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elix Titling"/>
              </a:rPr>
              <a:t>Created at www.bibm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3:21:25Z</dcterms:created>
  <dc:creator>Lakeview</dc:creator>
  <dc:description/>
  <dc:language>en-US</dc:language>
  <cp:lastModifiedBy>cyndi.vander_ven</cp:lastModifiedBy>
  <dcterms:modified xsi:type="dcterms:W3CDTF">2009-04-17T12:40:48Z</dcterms:modified>
  <cp:revision>3</cp:revision>
  <dc:subject/>
  <dc:title>Running</dc:title>
</cp:coreProperties>
</file>